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2CE6-87B9-4B02-B0D5-0BDA125C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and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926-BA24-4607-8822-29A4FF6C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C6C-F849-4024-8EA6-3CF73E49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5BAE-87BA-4C82-B751-74CBB269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D7A-09D2-4493-AD27-725925AB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B69B-7EE4-47D4-BE78-7766F4D4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DB9-C42E-43B5-9C57-7A92249B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0820-AFA1-4D1D-B01E-16DAED25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7D60-8642-4D9B-8D50-290B0C82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4A23-D468-4DBD-8471-594F449F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4C7-27D6-48ED-B7EF-F9DBCDE3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F2C5-0165-4031-B800-9A081B4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FAB-7020-4AB4-B614-56FB663C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95AB-0878-4A46-95AA-5990D8F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4E7C-603D-4CF5-881D-B7B945F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7613-9598-43D5-B3BB-00BF9714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8260-C54E-42D4-8899-B242D9DC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D88-366B-45A1-810E-7F5473F0B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327-4D9D-4D6B-976F-9A73B1BD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DF7-1E96-44B4-9E3D-71AB5C8E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C25-B439-4140-9546-99BFA078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408-6794-4A61-A07C-819CBFA8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43B-A0CE-4DA7-9F5F-564D8B8E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D2D-0B82-43D3-84F5-0E5190E3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49E-B531-4AE1-BF1E-EFB8EE3F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7b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A1D7-447C-4A66-BEA0-AD7B3A8E8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7b00"/>
                    </a:gs>
                    <a:gs pos="100000">
                      <a:srgbClr val="ffcc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2A8B-7645-4F53-B514-BD7D88499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blackboard.wcpss.net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pyright for the 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3276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s Education and Library Medi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aborative Staff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pared under fair use exemption of the U.S. Copyright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519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blic Domain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published before 1/1/19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published between 1923 and 1978 with no valid copyright notice or was nor ren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authored by employees of the federal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 that the copyright owner has granted to the public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ution:  Look for selected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Blackboard Site for Copyrigh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37240" y="2895480"/>
            <a:ext cx="1540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496040" cy="3716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160020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2133720"/>
            <a:ext cx="3352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Q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w and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do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Blackboard Site</a:t>
            </a:r>
            <a:br>
              <a:rPr sz="4600"/>
            </a:b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 What About Copyright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4495680" cy="134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" y="34290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n to Guests—so any WCPSS staff may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33"/>
                </a:solidFill>
                <a:uFillTx/>
                <a:latin typeface="Times New Roman"/>
                <a:hlinkClick r:id="rId2"/>
              </a:rPr>
              <a:t>http://blackboard.wcpss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 in using your email ID, password- wel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on Course Sites (top butt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on Central Office, Curriculum &amp; Instru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bout Copy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38080" y="2362320"/>
            <a:ext cx="723924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better to ask for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permis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an to beg forgiven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araphrased from Carol Simpson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Catechi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33520"/>
            <a:ext cx="77724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pyright Comp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Good Faith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dia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ol Simpso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Cathec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ol Simpson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for Schools: a Practical Guide. 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used with permission of Carol Simpson and Gary B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part used.  Copyright © 2006 Microsoft Corporation, One Microsoft Way, Redmond, Washington 98052-6399 U.S.A. All rights re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erial used with permission of NCD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llabo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dy Elliott, Coordinating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Medi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ja Beckham, NBCT, Media Coordinator at Apex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Jackson, NBCT, Media Coordinator, Davis Dr.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e Moody, Coordinating Te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ry attempt has been made to be accurate, but th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ation does not take the place of legal couns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895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not the copyright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ly complex and extensive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edia significantly impacts copy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o consider copyright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and resources to assist – where to fin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ducators-Special Privile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y Becker, Copyright Consultant ,addresses the responsibility of educators on the topic of copyrigh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"Educators have special privileges under copyright law, but they also have a special responsibility to respect -- and to teach students to respect -- the intellectual property rights of others. This responsibility is especially important now that the Internet makes so much copyrighted material so accessible to so many people.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G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cker, “Copyright in a Digital Age,” June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lectronic-school.com/2000/06/0600f2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83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ing-Level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books should be available in your building in your Professional Libra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ol Simpson. 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Catechism: Practical Answers to Everyday School Dilemmas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  Linworth Books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ol Simpson. 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pyright for Schools: a Practical Guid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Fourth Edition.  Worthington, Ohio, Linworth Publishing, Inc.,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Library Media Coordinator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irst contact for copyright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50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yright (17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clusive right to reproduce, publish, and sell the matter and form of a literary, musical, or artistic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Simpson, Copyright for Schools: A Practical Guide,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di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280" y="676080"/>
            <a:ext cx="74898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Copyr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8381880" cy="40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tection provided by the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laws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 the United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ranted to the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uthor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of “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orks of authorship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ailable to both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published and unpublish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thor has the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xclusiv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ight to do and to authorize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s to: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produce, prepare derivative works,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istribute copies, perform the work publicly, displa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work publicly, to perform by means of digit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ransmis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.S. Copyright Office – Copyright Basics (Circular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www.copyright.gov/circs/circ1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ir Use Principles – Four Factor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Copyright Law, Section 1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rpose and character of the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commercial or nonprofi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ture of the copyright 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mount &amp; Substantiality of the portion us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ffect of the use upon the potential mark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420040" y="4572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Works Do Not Requir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miss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Works consisting entirely of information that is common property and containing no original author or in no tangible form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 Domain Works – but look for restriction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29600" y="53352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3:46:04Z</dcterms:created>
  <dc:creator>Trudy Elliott</dc:creator>
  <dc:description/>
  <dc:language>en-US</dc:language>
  <cp:lastModifiedBy>Trudy Elliott</cp:lastModifiedBy>
  <dcterms:modified xsi:type="dcterms:W3CDTF">2006-04-03T16:55:18Z</dcterms:modified>
  <cp:revision>39</cp:revision>
  <dc:subject/>
  <dc:title>PowerPoint Presentation</dc:title>
</cp:coreProperties>
</file>